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DB0F22-C438-49B1-9979-54D3941125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615E98-28AE-4A58-A053-69D004DF3F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2EF032-5EB5-47CD-B3B9-713CD5A0AB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46D8B7-840B-4784-B0FE-05B3D0E59B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468D19D-7CFE-4DF5-B036-6FE7C124F44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1EB069-5F88-4599-B730-7FC58E1561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3AB5FA-20A0-4FA5-A660-BE6C35B7E2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DF241A-135D-46F9-B94D-AAE6A7E44C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CACC83-A881-43EE-BBA6-739901DA3E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1F81E0-E728-4686-ABA5-9C46FF2A72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6A98F2-A434-4A5F-8E0C-FAE8F1A449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A10104-71FF-40C6-8F61-C7028881BF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66228D-449D-4D7F-8CAD-B32425B4D6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2A3D50-A5FE-4438-8253-CE7AEC8988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7696ED-8596-4B70-89B5-AC3CFDB2C5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A6F64D0-822B-4B5C-ACA8-2B3EE63733F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0934CFB-AEC7-406A-9699-B5529CACDDC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88DC31-235E-48D1-8D5B-9E7CAC830E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E912D5-B16E-46CC-9A21-3A80D86265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534604-80BE-4DEB-A0BF-0E5CEADA97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870463-D92E-4AF0-AE2E-A1CE60FC51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A7ADAC-2855-4CB3-92D6-D6420EA3EB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0B423A-ACBA-46A0-A95F-AA02500B41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277164-DA31-48F8-AF80-A0B5F4343C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39C154-1FCC-43DF-944F-E1850B6B515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5BA0FE-A47F-4D93-8871-5CDAB31197A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0F981BB-0F81-46B4-9BAE-4218A8C392F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22FABDF-690D-459A-8D18-15003426201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365BF2-FA22-48D5-8ADD-301695A38DB1}"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D60471-1BB1-4E76-BA1D-6E857164E99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327529-6058-45AB-9D8F-7C333B024045}"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6EEB0D-221A-4281-8A85-8922B21CB611}"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9880C2-C48E-4D46-B8F3-24A0D41A1623}"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3AE842-0C5E-479E-A32F-108F50371D80}"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20CED2-8055-4C2C-99F6-A33D7B315250}"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11A0E1-54F4-443B-8A42-591E01DF27D2}"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A060B9-7C0C-44C9-9243-30638E6F91CA}"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F49B81-00EF-4D86-BA72-353AF5DFAA39}"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14ABD9-F671-487A-9CA3-E9D7F4799B40}"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FF158C-EC5B-46A4-9DA6-E81B19912683}"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D5CEEC-5BBA-4183-8E61-67B3955F19FA}"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8BB872-79F8-4575-AC61-2D850C4D48F4}"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EFED2E-F05C-456D-88D6-39E03ECED4AF}"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4C021D-FFEA-486C-9ADA-355B232E4F51}"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C4AF63-06F5-4FAA-9A40-BE11D0F8DD29}"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19EDA1-FE63-413C-96CF-6D8E6FD392B9}"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B8068F-A3F7-4F7E-8632-E49D81D61259}"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BC5F9F-B4D1-4239-8713-D16412C77423}"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416245-D843-4974-A9F7-DBA10681DF15}"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20E530-FFF5-4F82-9326-4FC5699CFB98}"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ED38D1-F56E-4E80-A46F-9F5C873512A0}"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B882CB-B70F-4CA6-9A18-530A29F0A5B6}"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54A8DF-9B14-4881-B2BF-BF70C0DCFDF4}"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0731D5E-9AED-4821-A022-A8C2FD77C2FB}"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320E6A-344D-474B-927F-A5A42BF27653}"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E33B3D-B042-462A-8B74-2CE2D2375DA4}"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9EDBE0-473A-45C5-AC99-BF46D5174DC6}"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1F042C-96D0-4103-A317-39A95C4D52F2}"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FB043C-3588-465D-8C3C-02B6E41E436C}"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1DE995-3BF5-4E94-9779-75ADC7632C2E}"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056171-F2F6-437A-8202-7FAF97692048}"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38CA54-9C89-46D5-A58C-710ECFEA3A92}"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7207E0-BA86-4592-9F08-52B421868E57}"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32CFBB-2230-44D7-8167-1F6AFAB144F2}"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C11DB7-1D77-4E7F-88C4-6314BB65300F}"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0AD1F8-C13D-4CED-8384-A7DD2C8D5F6E}"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4137E3-34A4-4186-961F-94C30FED6BEA}"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1F2EF9-C112-4692-BF89-6BEF93F57F56}"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3740D9-5BA6-4B15-80A5-C572F124C5F1}"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E23CF4-281F-4E06-AB70-A39B3A03DA58}"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6723C7-2A7D-479D-8EB1-FE490EF019AF}"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CB6B0B-9AE5-4906-A185-245E43009F79}"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DFE474-DC95-4BA7-A806-488E4A5B13C9}"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110E48-6497-481A-B85A-CF46A4608874}"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7E12A41-AC3D-465D-AD23-B560E61A605E}"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5665C3-8CA8-4884-8C5C-E1D359128D13}"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802097-D00F-4B1A-8B38-E66668F0AB7F}"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EF81D34-3635-4C82-B11D-4C32E54699B6}"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1A5A38-0707-437D-AC7D-D970E48B7C19}"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F4ABAF-3936-436B-88EE-2A8EF3B11E11}"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A61633-1CED-4A56-9701-10AA7CE58B09}"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EA6110-9B1A-4430-B286-D14F271C2669}"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5726B4-EF7A-4A65-BD4E-B48DDFD7BF7E}"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EBC7AF-3349-40DA-82AD-98E9BBF39F1A}"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8BA2DF-3154-4C52-8324-FA960477646E}"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0C68165-67CA-4D9F-A0EB-DE6F2B29289A}"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282065-E26F-470A-A64B-B7A0549F6164}"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017048-EA0E-49E3-8089-FCE1EE681C26}"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48DF19-65B2-4804-A047-0C7ADA0B7C62}"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AB45D8-0CA8-47CC-A1F0-C3971EA3596A}"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B8AE49-3F77-47C1-9F71-69F24CA40F81}"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D44A53E-C11F-484E-B217-FF01C688E216}"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216DF4-C743-4E64-8E9F-14D5E64A35CB}"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49B5AB-25D0-4566-8677-E782A2F7065F}"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718DDF-CDF8-4F4F-B204-E4A7C9788980}"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03FEE1-4367-4C50-88BC-9EAC7FDD68A8}"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1345BFF-ADA5-4570-A413-6E90F7C3DF7E}"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532E64-C418-4FCF-B9AA-B6B3F29CB8D5}"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B0A457-3292-474F-93F3-E3F1A49D0F77}"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75D56F-EB06-4AEA-B098-1FDCD09099F3}"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4667B7-3141-4EB6-BBF6-5F62FB4C8FC3}"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327499-BB92-4B59-922F-75A202CEC923}"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7E80B4-BCBA-42E2-A9CC-7546D861ED93}"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0CB41DD-5D44-4641-B33A-5943C2575261}"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564F52-D6D0-417C-B4CF-A266021303B0}"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3F0D94-67FE-49C1-909F-09F1CB23093C}"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95E946-8A47-4147-B3B4-C7EDCB384E89}"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B090B81-56A1-4ED5-B3C7-71AF4118388E}"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488EB8-45FC-441D-934D-B799F853D345}"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A1599C1-71BC-497C-A876-6B1381F94623}"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24F5E7-104F-4A6E-B88C-4D20EE3D0CD8}"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CFC613-D8DE-4544-AEFC-31AF1C72DE59}"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E01813-FF73-4F13-823C-34D74EA85BCE}"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9B70C6-6521-4D02-B380-3911B71C4890}"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1B3745-823D-4923-B810-8D6F1219991F}"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357F7B-8037-48E4-9ABE-5B3CA5204F5F}"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A8FEBD-9C66-4B6C-976B-894CB3E9F2D4}"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070D89-A564-47BA-A667-FFF9483DC6BA}"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C9A138-667F-4A0C-B07F-88B195CA631B}"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20D6A7-E3CB-477C-AD5E-788008B508C0}"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4132B5-469F-4B13-B017-83F3C1ABBA04}"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BDA76B-7DAB-408D-803B-F8FDCD9689E7}"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440015-9B3C-449B-AC8D-52C1ACD42F06}"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AB0ADF-CC58-4C5A-BAFF-8ADD18FC9E19}"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DB9FA5-A988-4B74-ACC4-AAF1DB218EF7}"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6E24EEB-E017-4BFF-930D-C0A83DE4E72E}"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C12BF7-0807-45FF-8753-11A0362C927B}"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1DD2A9-9553-45A6-8E99-30B63A865D21}"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FA405D-BB5E-4D55-89A8-D0368CB2427D}"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0DDD70-A60B-4C85-9575-5E128E63CE87}"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4DC5A4-46CF-43E4-AB9D-1C1AA2F3EA2A}"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37E49B-EDAF-4410-A0BE-2F5301A313CE}"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E98713-78CA-47C7-93C7-B612C9809141}"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4AC1F2-7E0C-4AE5-9C1B-6072A5913903}"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A1A2C7-4501-4F1A-87BF-1F7FB680C5B0}"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F0FD97-4103-4E9B-AF05-2D9708FE6FB1}"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751C3F-069A-46AA-99E0-56732B8A6853}"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F42C40-5700-48EC-8DDB-B077FE488FB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85718E-76D5-4782-8C92-21A63D27A1F6}"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4E9F4D-A0A4-469B-9C82-500F9DD3908F}"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0F5DCD-24B4-4868-993F-0AC641AF2DDC}"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46063C-2A01-4541-BE43-95950BE2E8A7}"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BBE83D-D097-4B0D-8F68-B5BC0DF02BB9}"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4BB45B-FB17-48F5-9BEF-0BC0B7CFF259}"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08D3FB-260E-447B-BA53-0F5E60B82E08}"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2E23FC-0905-46A8-A561-DAE8C9373CDD}"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8E6A8B-36A3-4D59-8987-51D2DE91B0E9}"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D6513E-E20F-4550-A65E-C6DFFFD060A5}"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48B660-2CE0-4DAB-856E-E18D3D050A58}"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6165FB-1AD5-4414-BC65-6B69F923DD97}"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7F41DA-CABE-43E8-A826-18C7D54B238E}"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CADC3E-7983-427B-8033-BD7D42646794}"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68EC3A-144E-47B3-8558-912CDDDAD22F}"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1382EDE-188A-4289-8AB8-BC424A633ACD}"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220381-B4FA-47FE-9FF2-8A9394F715C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E6A0E8-4710-4CE0-B8E5-514F596F77C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BB6D30-411E-489A-8CAC-E0DBF49FBE2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8DFA14-1285-47D6-9C34-23789CB4C13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AE60C2-0A1F-405D-81F8-16DDEDCD170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B507A4-58CB-4C11-A719-79E3E3076A6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D9C71BE-9035-4014-B7CD-767E2EA1E37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BB925B-8C1C-440B-958C-6C55455DF4D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0C26BA-C9EC-4B26-B18E-1EBC81367EF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F5C3F3-FD8B-4387-8284-DC8A1DC69C0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F7B907-E0E9-4F3B-B1B4-DDC670D0426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7E08F2-8769-4C56-B62C-49A737FBDD5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BC481B-4889-413C-ACC9-AD0154C762B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678F69-8EB0-4716-97DD-A65787B5E91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BBC250-43B7-4371-814D-52BE6D96365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2EF5AD-5F4B-4957-A4B9-BB6A2DE919B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FDEE24-27C8-4823-B48E-55BE8184F55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E13569-66E9-449F-804F-A9B92697F31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C99977-6E5E-42F3-B208-7574F46489F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BBCE06-E6E8-4354-9098-7C711099CD5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2C61B1-39EB-41A4-B2CF-656C91F7BBC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5E16E0-FCA6-40E4-8C47-F71FDF43792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ACEB6B-BD51-4938-B825-D55BFBDE0D7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B045C8-B96B-484C-909A-7BDD59CCAF3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F6B257-ED88-447D-924F-94BC6903254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48E5B3-5AE3-4E9D-9BEF-333F7B965D2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72B8AB-63AF-459E-99CC-9F03A1D8628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F96C88-5F74-4BF8-B688-15B7B55DF85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3D8FD8-E874-4A23-A873-9CFEFE30930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19FB00-150E-482F-9A98-899609B4AB4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5FB6AE-5242-49F0-AD22-1A14F85F174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26483B-0DCE-442D-9B86-D2FDFDC7621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53BEF2-3675-4B26-968B-0F00E1CBF85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90F8D7-E0EA-4619-8751-AD14DE3C6A3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91BB3E-63AD-4C17-83A0-DAFD8623A85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E6B338-4A0D-4000-8992-A59CC3FAA3E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E9D328-9AA6-48C8-A3BB-B90C6AC6FFD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F80771-3CA5-4919-A24D-E50EF3DEF10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0BBF85-A720-4050-B72F-E0F0FE97C4A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3A4F78-B333-4DC9-92CF-D711E1B09A5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415E88-B1DF-4944-AD33-0BA2A5E8DE62}"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E4ED44-0A5C-4DDC-83B0-95A43AB7766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154586-65FF-4B48-8B8B-89FC0E64F6C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97C4F4-67AF-4F35-92F9-DCDF83EBC1D3}"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50AB34-3C30-4B31-9534-C46266A3BE8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EBC3F4-DAE7-44EF-B4D0-3D94D3B1BFE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3DA4CC-68EE-4CC7-89E9-E8984F8D82AE}"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D980246-4CCE-4286-B6BE-5C0C7191A617}"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8D34BE-A590-47B0-9F09-AFFF9846EDC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C91471-A591-4A6D-BB2E-C2C5567F5024}"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93BD61-2C70-4ADD-9DC4-475333B58EA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947D71-1366-4A25-9371-B3CBFA828CE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AB38FA-F3BA-49D9-A400-5047ADE6BF0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891BFD-66DA-4F8D-B707-42D50FE48CE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3EC356-5584-49E6-8581-AC68FE55E060}"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09506F-7FDA-4D50-8996-FCC3D9772ACD}"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F0E8405-F074-4869-9D05-B539285CCF2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F000B6-65A0-4D90-9659-F9263DAB0D2B}"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599976-641F-4C81-BCD7-1CB389D7441D}"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54A6A5-420A-4AA2-BB40-D9A473B5CD99}"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D1D54A-21C0-4DD9-921F-D8B0D18C37F9}"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9E0B59-E6A8-4EAA-942F-2C7839882EDB}"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EB25E7-7038-459A-8A6B-71B08CA10B00}"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44937D-EA83-44E0-906D-A2068DFBBD51}"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E6901D-064A-4F89-A665-63A2B48EAB4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5C77CE-B7BD-457D-89A3-641BD11C6D42}"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3B0A0C-0AE8-4CCF-AB4A-F922F3531D9B}"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73D28B-612E-4DFB-9DF3-6E062B9842B5}"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2DBD9B-8819-4EF6-A0E1-5D6739E9C678}"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8C0F41-1DCB-4D0A-BB91-B7BBC550E5B5}"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27B1C7-EDA5-48E4-97F1-048F5DF07F7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0916EE2-9BF3-4177-B30A-64B086E17963}"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20F1F7-E567-4D9C-9D85-32879AC2A1E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422C9A-ED01-44E6-82A3-0C38DAC1C6B9}"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9425F5-15E1-4E12-9CB8-4FD09AC92C4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465135-AEC3-4594-95AE-EFC8A58D43D6}"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CC62F2-0F99-4B34-A93D-6BFF81F4CE82}"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D968DC-E0BD-4A56-983D-61C8E7190727}"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FAB993-78DE-4FEF-9427-60107143F92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B0361D-68C1-423D-9A5B-6A37EC638BED}"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543D18-34D9-4BA8-A49E-29ACECA3D3A4}"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C81EC2-E234-4CB9-B131-6D1863D16979}"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DE48D1-43A5-4F45-A882-4B24AE76E5FC}"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E6604D-CA8E-4096-A185-91B5A69CFC10}"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2B2B39-3CF1-4C31-B2BD-C5BD3D706E73}"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