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F78468-65E1-449C-BFFD-AE7D4E5E03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474BE7-27AC-4A1F-8143-6DEF9CFBDD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6CEF3B-AA48-4FC8-BC13-60B33BF6D3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74B384-FFBF-4A6A-9B41-F09EF18563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2424ABE-8CCE-46A6-A4A7-1766D7369A1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3B1D7A-50A4-4AB7-BB54-038B81F86F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F35861-7B66-424C-9FE5-D97193DAA0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D6BB1C-A4F2-4F4C-BDAF-FCE718DCBF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F63EF1-D12E-496F-89FC-9B7D597067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967923-18A4-4A60-BAB4-CC93E658A2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BD0857-34F7-495E-9720-ECDABC2185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062DC0-56E7-4B6B-A11D-B168245646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7C2F69-7A7D-43F0-AC39-B480E942F3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B092D1-8585-4E95-A879-BC664FBB87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C84ABD-A6A5-404A-91ED-84C1A1F472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3521CB5-47A8-4F42-BD5C-4BE0096D5C5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0EE85B0-A702-49A8-B029-1AAC7621832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716E38-82A4-4330-B48D-F0DD4F72B7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5313F3-DE80-45E5-AFE8-1417F684AD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E1B1B9-9FC2-464E-8F10-0F7DD8E549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571E10-48E1-4650-91E0-4A9BAA3410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6DEF80-570E-4C62-82AD-221049B97A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DCFD7B-C2BF-4379-A8D3-4F0595E564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49249D-339B-4F4A-9812-C23D97874B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671B1D-266F-4C4D-AABA-321FDC88B7F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213DCC-FA99-4359-9656-02F218FA9FA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41374D8-417F-4AEB-A15E-CE8751A0CB9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E15E6B3-A31E-41DC-937D-E665C12DF010}"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0BDA69-9207-47F3-A29D-809BDED8887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9A5E0B-91B6-41F9-82D7-BC11391CCFEA}"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4ABE30-F879-4D94-8B92-AAEEAF10E0D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207A32-F207-42E8-98A8-45EDA60AC124}"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BBD6AC-0EF0-4EB8-A50B-BE1F57BC51C8}"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65983D-EF06-4160-8862-61FC55C401D1}"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786393-1385-4719-964C-21DB43080D97}"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EEAE90-E337-4508-82D6-ECD6F04341E6}"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87B03A-FD58-496F-94BC-76DB9543879A}"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85AA51-7A6F-48A2-8D2A-001180907DEA}"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CF5379-4BF9-44C9-A3CD-00F8C9C184D9}"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9903D3-1436-42EE-8DB0-E64C8F66A9C7}"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B3A428-E567-403E-9F7B-EBECCF86A090}"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A5F7ED-F011-46A8-9BB6-9C41B33B001E}"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4DF349-1ED9-4DBC-9035-0E94C2B79B88}"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47FB59-1D70-4B2D-811D-D6CA48DEAC9D}"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CADF75-42FF-49DF-9BE6-2C85284FD031}"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8E8B1C-F2BA-4FF3-B03B-DD2D681D9FCD}"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CD1BB6-B4A9-4C1D-98D9-DC6D60389A23}"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E70F37-ACCB-400C-BE08-945DBC0DBF39}"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C59406-1E11-4CD1-9396-49652DB0CC3C}"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CBB2A8-F8E3-4A0B-B8F6-ABFFCF91F9C8}"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BD84F8-C16D-4E09-8FDA-C292BF77D083}"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535762-D98E-49DC-8C7B-867086FA8E3F}"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DE1A95-CE3A-491A-9DC5-77F173FD2687}"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7856C5F-8369-40AD-84A7-2FA505170BE1}"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9B4590-B85B-4C30-AA42-9536C968D349}"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083B28-BC0E-4C63-B063-062210E01CDD}"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A3D02D-0B62-41A7-864A-92D3EB48A53D}"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F0AE76-94C7-4EF7-BA82-3C1E6CF98968}"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DBF948-ED01-41AD-949D-830509A0EB3B}"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94E022-0CF7-47E6-9DF5-666091920B72}"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6CCA9F-44F7-4B32-B988-09D0CD78F9F9}"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70715F-5259-4570-ABAA-0BE298464413}"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465F03-9CE9-4C3D-9976-1E2504316B2F}"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88080D-AEAA-44F4-BF98-8BEE75DECF23}"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565D1B-F46A-4FE8-AB41-6B2B092AA31E}"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B6B511-77BB-4653-A587-6A86942B1C59}"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59F9AB-8EFA-49C1-9E70-31B0EFB3B785}"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54BC71-6EC5-4FB6-92D8-CD5C54C83F78}"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49E78C-0037-4FF9-BC22-74E2208D85BB}"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1D9825-9AE9-43A1-BAB8-174F412F21CA}"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77F4F3-C9CD-4589-A070-623C4470AE34}"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DB25A7-74BF-4B4B-B92D-A4076143F07E}"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6739EE-7567-450A-B3D3-710ADACFDD34}"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885740-CBF9-465B-A329-412278090E80}"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DE9CFC4-D215-4FC1-9DA6-13EBA704E3D6}"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69B0C6-35DF-471A-A96C-9E50511D37EB}"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B2971A-6E66-4218-9F4E-4D0986FF7906}"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EE11509-4285-4D3A-9C0B-2B05600AC547}"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68F2DE-E3D8-4707-8C15-76DCE4F37B62}"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D3E28C-A5DD-4975-801C-843C306DBC0A}"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059EF0-5122-4BF8-A99C-5C1DA6BBE0DA}"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96E66E-9DD1-4B27-B316-8A195D3339C6}"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C78914-7A7D-48A1-811D-A4A6661DC9A2}"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BEB94D-DB8D-4CC0-ACCC-BD5A3EAE5168}"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306644-DC51-4308-B6BF-69A593805222}"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A10194B-9747-48C6-B648-6C505CD5027F}"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3465E0-FBEE-4AB5-AEDD-5B0612CCCB47}"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8FD1A7-8B73-4884-8A6A-A2F2B9DB3AEB}"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C57854-CD55-445B-AB40-F4E421B6E676}"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24947F-340F-4ABA-A67B-BCC6F6C7596F}"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40EFB9-3042-470A-9A2A-F355DE1C0D0C}"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9B5506B-E744-4C9A-9819-60DAF3A81D1A}"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3B4DE0-56CB-464A-8A59-A0CB22484DF4}"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DD83A3-B3B5-4693-B97A-B26B0E357077}"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2EC47D-94D2-434F-BFA2-E91AA7A79BAC}"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364A9F-9228-40C8-B7BF-E23877232DE2}"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D6928F8-0664-4A66-A0E3-465A911C0554}"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8959E7-F973-4B8C-9438-B767F9D970D1}"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2FD2C1-6DFF-4BBC-A54A-DE49FA558742}"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DB182B-E0F1-46D4-8FBB-082079AC6B1B}"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3CCE9C-ECA9-4956-879A-92A4173CE172}"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F33327-3847-4EB3-A0BC-08BBEED67E0C}"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70FDEC-80A8-46CA-9980-3DAEE27AE3F4}"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05B19FF-8C4E-49CB-8CCD-350F0551A749}"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9C2B57-378D-443B-A5BB-C022ED1F3A39}"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5C7F76-7BBA-4FCA-8312-5C24C1004C19}"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6C0C7B-82E7-4835-984A-4F1EBB1B3397}"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B68037F-AF0E-4FE4-B2A0-823F6E46CD83}"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BCABC2-3745-45B6-9EE9-02367DCC3BCE}"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A26F82B-0E59-4DEF-A731-191CDF7BB3A8}"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0809C6-F47B-47A7-BD66-763290D143E0}"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0375D5-2C7B-4D01-825F-FCED97169713}"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CBAA9A-87B4-408B-B65B-4D1F44142F91}"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90AD46-FC35-448F-902C-4AEBD80B59A6}"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7FF12C-3A7E-49C3-9A6C-605C15EE7072}"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92EFA4-A2FB-48C2-A3FF-27187FE9C513}"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C044EA-9499-4AB0-A9D6-9674B0FF7974}"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1DC8A9-7767-403E-BAD7-126A120C26C1}"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99BB2D-6F4E-40B4-8AD1-F29C0118151D}"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D2B99F-378B-4141-9872-8D8D1A22BC83}"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BE2F48-DC19-46AA-8199-AF3BAFF5603B}"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AFF3A2-BC20-4246-9B31-77E1B9CA9327}"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FA482D-16B6-4CB6-9CD0-D1D3F993CA64}"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9EDEAE-1FB1-4275-9EE0-6C64ABA80CBA}"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50F944-C471-474D-B91D-54F51DAE6647}"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0F97740-84AB-4AF1-A7F2-A69231BCC28B}"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29C362-C221-4D43-863F-5BA49335D867}"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BEB211-00C8-4BA0-96DA-0E7132B7DC93}"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8B566D-D6B6-4603-B4FA-C890A9560501}"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2B9BC5-44A6-4699-AF5A-E86B5F82C6BD}"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93721B-B148-4497-AFA8-9A2B6580B037}"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8F5FBD-0016-40F7-AFFE-F84DB606E955}"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40C314-C933-45FF-8F5D-C494FC493A42}"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10880F-C6F8-42AC-A0BE-7525BFF1F92E}"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9C812D-3D6C-4520-B79D-6C2AF2F11658}"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317C8A-DCE9-41B9-BAA6-F6B1DA9CA9D0}"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FA9E07-6F51-4F05-A537-7D915E8367AD}"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72B3D4-76F8-4108-ADFA-925141ACD9F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198F1E-D025-4C7E-93C3-2D59E38843D0}"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C69842-F0C1-4982-A8FF-91E1DB5224D0}"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E678A2-EF91-41E8-B5DE-73AFC4BDDF23}"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19896B-5CF6-4AE6-A436-B8DDBDDD918D}"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55E487-94F2-4CB7-82F6-35A7BF400246}"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7E95D2-772F-4AF1-B80B-0AAC3B2CC680}"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1F2769-142B-4374-844C-67A247465757}"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5EB005-FF50-483F-875E-B81AE4407A8A}"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DC9299-EF96-4523-9686-3CD2867BC469}"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323436-C5D8-4CAC-B452-AFFE3A76A751}"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BE8A0F-D847-4BB6-AA0F-87E5439A01CB}"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7971CC-312C-4DA7-8E76-C46A6B9BD7E6}"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F63DD4-2580-4EAB-A2C6-C56099C81325}"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A4F7BC-BA2B-4A18-8EE2-C3D45192C8A6}"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2785CD-3F3C-402E-8AA2-089D8CC84D0F}"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4D1E9DC-5F0D-4798-8534-A2E127F57FA3}"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B08447-FE3A-4F25-BA46-7700AFDBFF4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38E198-6659-4FAD-B14A-8C383C5738F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807FCB-3EB8-42E7-B125-87BD72D4377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9B2579-F39D-4DE4-B900-FD2507D6149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43077D-A1FE-4CB0-BA84-905579FFDE1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2A544C-4861-4806-83B3-2D72322AFA8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B80ECF8-6C51-4227-93E6-C47BC257CCC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FE8232-CB51-47BE-80D3-7E86A80B598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C80E12-2E71-483E-B699-871D11CA4CD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970772-BCE6-4095-80FB-9D373F76D15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E7F7C2-1A7D-4401-98F2-8DC8B66EC97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A1069E-5EB7-4D39-96AF-8E7C99E1D5E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FEA291-E4E4-4691-AF47-7EC62AC0520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0B1DC6-6356-4BAA-AB9D-9FA287B2F09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946C17-6FA4-426F-A981-28B8FA11C96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64CAE1-40D6-428A-A83B-64EAFC8D360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F7B633-203A-43D7-BCA3-9FF14B52A9B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B7A446-9EBE-4F02-96A2-01ACFD4B97F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CD29AF-44FA-40F3-91F4-198EA807D0B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D8B451-6D05-4152-9CE1-397243BBCB2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D651A7-9010-43A5-ADCE-2AB91464243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56C633-3892-4BDB-8693-327C5C683D8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83FF08-B87F-47F1-A596-249CD2D6945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BBC8C5-2C7E-43C7-89A1-ACA1CF76767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EB7595-F1BE-4082-9516-BDC0FA7232F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58126F-0C51-4075-A65A-769704CB814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882588-0B3C-40D1-B031-E38EB2A4D21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3E2C71-B9A3-4F2A-A4D1-7FFA8BD0F15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86ADCC-04E5-4C46-9146-FD754E26217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5C1D00-5ABE-47BA-ADB9-53E90025F4F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100F73-C459-4BE8-A54D-3C9D013614A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B4F942-6B61-40EA-B0D4-462B517E1A6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3FBDD9-F478-4427-BE7B-F31B77911EE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ACC42A-7D46-4B4B-B78D-8E26471EDD4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4413AB-4425-4B74-9D4A-CC2B737B103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189874-355B-4B83-9A55-9B54E532D0B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120B23-63FB-441D-B339-38E422970D1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4CFD13-2E7F-4200-9763-F8DC77D223C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8FB377-269E-49FA-BFA0-380B9E2F538B}"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02CCB7-B8A5-4926-AFF2-8661EA065E1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FA4C79-86F9-47DA-B900-26D0EE52D26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CD0180-FEA3-4A4B-A4A2-8957851D5C93}"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1C8E94-0079-4865-86A8-0767FB2C0121}"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4BF51F-40B3-4985-A34C-02582DF6521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7BF18B-7A5C-4841-BEFB-FAC8B6A8732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FC5E30-AA38-42C1-A0A0-559DA092F4EC}"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2F83CF-5BFD-427B-ABE1-5E2AB9ADF64B}"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31F9403-38F4-489A-8637-829A3B521F95}"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AC0150-0902-493D-8B18-8700C4555AC5}"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1C401B-0C56-4F49-8BB0-04BA54BDA423}"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E65162-7D24-4016-9B1E-B89D42B839E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E34A06-C55A-4190-96D7-BCF2E5B3B20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7065F6-6FD0-47B4-B4B8-DBA18B71249A}"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D7717A-1E8D-436D-9D28-DD924DEAA94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73F70E-05C5-4D8A-A175-8A02F1BC91E0}"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097484-46C1-40D5-8F96-729765FEF09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A267F74-057A-48A7-8AA6-27CC1834F8C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EB7BD2-0911-4ECA-8153-3DD875E20C43}"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129CC0-5A92-4C58-B392-CB91542055E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C7822F-EF50-42E7-9A13-31AAC7366CF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7D0BE8-0E4E-4F5B-B376-4B5AC6172082}"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974DDB-5E10-408A-A4BA-4F037C63991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C07985-D49F-48DD-83DB-12DF9830435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27B94B-B623-4F8F-B4A9-93F2D490E9C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6166E6-4EF6-44E1-B98A-1555AE702DA5}"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66C8CF-B02B-465F-A34B-8C4555E84D7D}"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4A29F5-C341-42BB-98B2-B3E41A0B282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79268F-9B9C-4CEA-B5E6-D4E649572069}"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04AA2E-DA61-4305-934C-F55176216D1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14CB4F-2ABD-4B30-A692-5F071F8E8979}"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1DB0DE-A659-49BF-8ADC-A11D0367822E}"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16D6D6A-6CC4-4CDB-A6A3-D240DA75279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1928BD-D59E-4CAF-B3DC-EEE74086E84C}"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879AA5-A1BC-49EF-BBDA-8A40F1EF37B3}"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22C062-CBF2-407D-B123-CB0D45D97F3D}"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8A26CD-5C8B-4934-9036-A43B84127301}"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29743B-E7F6-43E2-89B8-13C01A8939E9}"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5236BB-F0FC-4A98-B5D7-58BD8AEF95B3}"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CD6D8A-F9F3-432E-89FF-9D6CAD5A27A9}"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819580-8C56-42D1-9F1A-ABAFD0622B3F}"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377A8F-3BCC-4FD7-B0D6-C8112C7223B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89C6B1-63B0-4EC2-891A-25AFB0A8FBF7}"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2662CC-ABC6-4FDD-B5EF-A9A652261057}"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E5D94A-552D-48E8-87AB-878E091CB1B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2698C7-5C30-40E8-B397-C95A889A2A91}"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